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D53F-7000-4B3C-9347-D10A3A643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C6D4-DD3B-477C-8DFB-716F81DC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F0D4-8F92-4C05-A4A8-4F33D56FE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6FD6-9C57-4BDC-9E56-47E10E746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018E-DCA7-45F8-AD5E-F48FD972D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68E8-87BA-436F-A2BF-B15D6618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6E8D-3160-4DA7-B5DC-0B7ED2BB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18E2-609A-4849-BE71-562F0956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50B2-0859-4837-A27A-AB07956F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0A21-501F-4B26-A054-062A9CD0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05A6-577B-4607-B6E0-5C031FA6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12EE-5D01-4106-AFE1-FC5A2D0C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2C5F-BF74-44BA-AC68-18702BC2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DA9A-9088-4821-B740-7208ACCD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8025-CF12-4594-AD3F-633E617F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9538-2E1C-4531-ADF4-4596F7CC1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94F5-D39B-4470-8DDE-B0E682133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FC41-512A-4485-BB81-F6C844CF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8063-A798-46CE-9255-7017D911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D597-94FD-4E17-9703-ED94D545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EF31-D619-47A4-B617-28BF94FF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DD43-B816-481E-A633-6E5C618F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4945-FDFD-4DEB-8798-F8A80216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6B77-C866-482B-B13D-25904E7C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12AF-A0CB-4580-B13C-19B126BE816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FDBD-0069-4032-A5B1-F06BD49F633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sers.rcn.com/jkimball.ma.ultranet/BiologyPages/P/PlantCell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Cooper Black"/>
              </a:rPr>
              <a:t>Biolog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Cooper Black"/>
              <a:ea typeface="Cooper Black"/>
            </a:endParaRPr>
          </a:p>
        </p:txBody>
      </p:sp>
      <p:pic>
        <p:nvPicPr>
          <p:cNvPr id="114" name="Picture 16" descr="scistartlogo2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115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2892ac"/>
                </a:solidFill>
                <a:latin typeface="Cooper Black"/>
              </a:rPr>
              <a:t>Cell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2892ac"/>
              </a:solidFill>
              <a:latin typeface="Cooper Black"/>
              <a:ea typeface="Cooper Black"/>
            </a:endParaRPr>
          </a:p>
        </p:txBody>
      </p:sp>
      <p:pic>
        <p:nvPicPr>
          <p:cNvPr id="116" name="Picture 8" descr="C:\Users\Liz\AppData\Local\Microsoft\Windows\Temporary Internet Files\Content.IE5\CPHVRLKO\MCj02296450000[1].wmf"/>
          <p:cNvPicPr/>
          <p:nvPr/>
        </p:nvPicPr>
        <p:blipFill>
          <a:blip r:embed="rId3"/>
          <a:stretch/>
        </p:blipFill>
        <p:spPr>
          <a:xfrm>
            <a:off x="685800" y="3276720"/>
            <a:ext cx="25909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 all plant cells have chloroplasts?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lain your answer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>
            <a:hlinkClick r:id="rId2"/>
          </p:cNvPr>
          <p:cNvSpPr/>
          <p:nvPr/>
        </p:nvSpPr>
        <p:spPr>
          <a:xfrm>
            <a:off x="3581280" y="3505320"/>
            <a:ext cx="1295640" cy="1066680"/>
          </a:xfrm>
          <a:custGeom>
            <a:avLst/>
            <a:gdLst>
              <a:gd name="textAreaLeft" fmla="*/ 69120 w 1295640"/>
              <a:gd name="textAreaRight" fmla="*/ 1226520 w 129564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35" h="21600">
                <a:moveTo>
                  <a:pt x="0" y="0"/>
                </a:moveTo>
                <a:lnTo>
                  <a:pt x="26235" y="0"/>
                </a:lnTo>
                <a:lnTo>
                  <a:pt x="26235" y="21600"/>
                </a:lnTo>
                <a:lnTo>
                  <a:pt x="0" y="21600"/>
                </a:lnTo>
                <a:close/>
              </a:path>
              <a:path fill="lightenLess" w="26235" h="21600">
                <a:moveTo>
                  <a:pt x="0" y="0"/>
                </a:moveTo>
                <a:lnTo>
                  <a:pt x="26235" y="0"/>
                </a:lnTo>
                <a:lnTo>
                  <a:pt x="24835" y="1400"/>
                </a:lnTo>
                <a:lnTo>
                  <a:pt x="1400" y="1400"/>
                </a:lnTo>
                <a:close/>
              </a:path>
              <a:path fill="darken" w="26235" h="21600">
                <a:moveTo>
                  <a:pt x="26235" y="0"/>
                </a:moveTo>
                <a:lnTo>
                  <a:pt x="26235" y="21600"/>
                </a:lnTo>
                <a:lnTo>
                  <a:pt x="24835" y="20200"/>
                </a:lnTo>
                <a:lnTo>
                  <a:pt x="24835" y="1400"/>
                </a:lnTo>
                <a:close/>
              </a:path>
              <a:path fill="darkenLess" w="26235" h="21600">
                <a:moveTo>
                  <a:pt x="26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35" y="20200"/>
                </a:lnTo>
                <a:close/>
              </a:path>
              <a:path fill="lighten" w="26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35" h="21600">
                <a:moveTo>
                  <a:pt x="13117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235" h="21600">
                <a:moveTo>
                  <a:pt x="13117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235" h="21600">
                <a:moveTo>
                  <a:pt x="10541" y="8224"/>
                </a:moveTo>
                <a:lnTo>
                  <a:pt x="14406" y="8224"/>
                </a:lnTo>
                <a:lnTo>
                  <a:pt x="14406" y="15221"/>
                </a:lnTo>
                <a:lnTo>
                  <a:pt x="15694" y="15221"/>
                </a:lnTo>
                <a:lnTo>
                  <a:pt x="15694" y="16144"/>
                </a:lnTo>
                <a:lnTo>
                  <a:pt x="10541" y="16144"/>
                </a:lnTo>
                <a:lnTo>
                  <a:pt x="10541" y="15221"/>
                </a:lnTo>
                <a:lnTo>
                  <a:pt x="11829" y="15221"/>
                </a:lnTo>
                <a:lnTo>
                  <a:pt x="11829" y="9129"/>
                </a:lnTo>
                <a:lnTo>
                  <a:pt x="10541" y="912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5:18:31Z</dcterms:created>
  <dc:creator>PritchaJ</dc:creator>
  <dc:description/>
  <dc:language>en-US</dc:language>
  <cp:lastModifiedBy>PritchaJ</cp:lastModifiedBy>
  <dcterms:modified xsi:type="dcterms:W3CDTF">2011-06-01T15:19:46Z</dcterms:modified>
  <cp:revision>1</cp:revision>
  <dc:subject/>
  <dc:title>Slide 1</dc:title>
</cp:coreProperties>
</file>